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8E7-88AB-460D-B450-F1E3EA20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029-D372-417B-86BC-B13B4A51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CC1-066B-4D93-B795-3E85DBB2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942-DC72-49F6-8B61-522CE22E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FF6-3330-4CDA-AA70-370D45AA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612-AA0F-4F15-AA92-5D8FB31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0BE-0469-4A1E-9D8F-A878B0FD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C3D-FDA8-48E7-88B4-A9201488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CCB-DE0A-4AC9-BE3A-B48F921C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228-961C-4166-B393-6ECA7C54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129-80F5-4631-A98B-5DE9AF27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0A7-5CC0-4DC5-B072-6A7A8D4F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71A3-7593-4542-8656-D9ED35DF6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90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OPTIMIZAREA APLICAŢIILOR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INFORMA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120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ducător ştiinţ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f. univ. dr. Ion I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ătălin Emilian B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600" y="1523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Verdana"/>
              </a:rPr>
              <a:t>TEZĂ DE DOCTO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24360" y="1519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8080"/>
                </a:solidFill>
                <a:latin typeface="Arial"/>
              </a:rPr>
              <a:t>ACADEMIA DE STUDII ECONOM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808080"/>
                </a:solidFill>
                <a:latin typeface="Arial"/>
              </a:rPr>
              <a:t>Facultatea de Cibernetică, Statistică şi Informatică Economic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zultate experim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ECTIE CRITER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486400"/>
            <a:ext cx="3581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03200" y="990720"/>
            <a:ext cx="37339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6760" y="3260880"/>
            <a:ext cx="1841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P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LI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5520" y="571500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PECIAL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17600" y="3581280"/>
            <a:ext cx="1447920" cy="838440"/>
            <a:chOff x="2217600" y="3581280"/>
            <a:chExt cx="1447920" cy="838440"/>
          </a:xfrm>
        </p:grpSpPr>
        <p:sp>
          <p:nvSpPr>
            <p:cNvPr id="147" name="Gear"/>
            <p:cNvSpPr/>
            <p:nvPr/>
          </p:nvSpPr>
          <p:spPr>
            <a:xfrm>
              <a:off x="3020400" y="3581280"/>
              <a:ext cx="645120" cy="384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17600" y="3739680"/>
              <a:ext cx="771480" cy="459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18000" y="3909240"/>
              <a:ext cx="857160" cy="510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52388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ACTERIS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03400" y="2438280"/>
            <a:ext cx="381240" cy="838440"/>
          </a:xfrm>
          <a:prstGeom prst="downArrow">
            <a:avLst>
              <a:gd name="adj1" fmla="val 50000"/>
              <a:gd name="adj2" fmla="val 5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3400" y="4648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08480" y="179712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ICRITERI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1148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56000" y="350532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BICRITERI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9480" y="492120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MULTICRITERI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838080"/>
            <a:ext cx="5181840" cy="56390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7" idx="3"/>
            <a:endCxn id="153" idx="1"/>
          </p:cNvCxnSpPr>
          <p:nvPr/>
        </p:nvCxnSpPr>
        <p:spPr>
          <a:xfrm flipV="1">
            <a:off x="5343480" y="1964520"/>
            <a:ext cx="689760" cy="1693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7" idx="3"/>
            <a:endCxn id="155" idx="1"/>
          </p:cNvCxnSpPr>
          <p:nvPr/>
        </p:nvCxnSpPr>
        <p:spPr>
          <a:xfrm>
            <a:off x="5343120" y="3657600"/>
            <a:ext cx="732600" cy="165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3"/>
            <a:endCxn id="156" idx="1"/>
          </p:cNvCxnSpPr>
          <p:nvPr/>
        </p:nvCxnSpPr>
        <p:spPr>
          <a:xfrm>
            <a:off x="5343120" y="3657600"/>
            <a:ext cx="677160" cy="14328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6019920" y="1371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5791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86800" y="13716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20640" y="9907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MIZ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zultate experiment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28195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SIUNI OPTIMIZ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43434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ITE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5627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49528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EFICIENTI DE IMPORT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37339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IVELURI MA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8" idx="0"/>
            <a:endCxn id="169" idx="1"/>
          </p:cNvCxnSpPr>
          <p:nvPr/>
        </p:nvCxnSpPr>
        <p:spPr>
          <a:xfrm flipH="1" flipV="1" rot="5400000">
            <a:off x="3680280" y="3756240"/>
            <a:ext cx="259560" cy="3353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7" idx="2"/>
            <a:endCxn id="169" idx="1"/>
          </p:cNvCxnSpPr>
          <p:nvPr/>
        </p:nvCxnSpPr>
        <p:spPr>
          <a:xfrm flipH="1" rot="16200000">
            <a:off x="3527280" y="3345480"/>
            <a:ext cx="564480" cy="3353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6" idx="2"/>
            <a:endCxn id="170" idx="1"/>
          </p:cNvCxnSpPr>
          <p:nvPr/>
        </p:nvCxnSpPr>
        <p:spPr>
          <a:xfrm flipH="1" rot="16200000">
            <a:off x="3412800" y="1859400"/>
            <a:ext cx="716760" cy="3429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562720" y="22096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ANALIZA MULTICRITERI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990720"/>
            <a:ext cx="419076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9" idx="0"/>
            <a:endCxn id="170" idx="2"/>
          </p:cNvCxnSpPr>
          <p:nvPr/>
        </p:nvCxnSpPr>
        <p:spPr>
          <a:xfrm flipV="1">
            <a:off x="7124400" y="4130280"/>
            <a:ext cx="1080" cy="82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0" idx="0"/>
            <a:endCxn id="174" idx="2"/>
          </p:cNvCxnSpPr>
          <p:nvPr/>
        </p:nvCxnSpPr>
        <p:spPr>
          <a:xfrm flipV="1">
            <a:off x="7124400" y="3031560"/>
            <a:ext cx="1080" cy="70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6934320" y="16002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rea stocării datel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0760" y="2627280"/>
            <a:ext cx="558720" cy="40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0760" y="3049560"/>
            <a:ext cx="558720" cy="40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80760" y="3846600"/>
            <a:ext cx="558720" cy="40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80760" y="4268880"/>
            <a:ext cx="558720" cy="40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3429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1981080"/>
            <a:ext cx="1981440" cy="1981440"/>
          </a:xfrm>
          <a:prstGeom prst="ellipse">
            <a:avLst/>
          </a:prstGeom>
          <a:solidFill>
            <a:srgbClr val="9696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3505320"/>
            <a:ext cx="1981440" cy="1981080"/>
          </a:xfrm>
          <a:prstGeom prst="ellipse">
            <a:avLst/>
          </a:prstGeom>
          <a:solidFill>
            <a:srgbClr val="9696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9280" y="20574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 utilizare spat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29160" y="50292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eza preluc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320040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65400" y="3367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3200400"/>
            <a:ext cx="1523880" cy="7621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9800" y="33526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UL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581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581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1349280"/>
            <a:ext cx="3403440" cy="3014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BD18246_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773680" y="2855880"/>
            <a:ext cx="625680" cy="674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772240" y="3584520"/>
            <a:ext cx="635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160" rIns="29160" tIns="14760" bIns="14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D18190_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477120" y="5861160"/>
            <a:ext cx="720720" cy="582480"/>
          </a:xfrm>
          <a:prstGeom prst="rect">
            <a:avLst/>
          </a:prstGeom>
          <a:ln w="0">
            <a:noFill/>
          </a:ln>
        </p:spPr>
      </p:pic>
      <p:pic>
        <p:nvPicPr>
          <p:cNvPr id="200" name="BD18185_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934320" y="4708440"/>
            <a:ext cx="998280" cy="689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161840" y="4861080"/>
            <a:ext cx="6184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rm"/>
          <p:cNvSpPr/>
          <p:nvPr/>
        </p:nvSpPr>
        <p:spPr>
          <a:xfrm>
            <a:off x="7037280" y="2808360"/>
            <a:ext cx="631800" cy="7779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Documents"/>
          <p:cNvSpPr/>
          <p:nvPr/>
        </p:nvSpPr>
        <p:spPr>
          <a:xfrm>
            <a:off x="6405480" y="1689120"/>
            <a:ext cx="777960" cy="876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160" rIns="29160" tIns="14760" bIns="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&lt;HTML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&lt;BODY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&lt;/BODY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&lt;/HTML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2760" y="2946240"/>
            <a:ext cx="19692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78560" y="3238560"/>
            <a:ext cx="196920" cy="11592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/>
          <p:nvPr/>
        </p:nvCxnSpPr>
        <p:spPr>
          <a:xfrm>
            <a:off x="7467120" y="4098960"/>
            <a:ext cx="396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7" name=""/>
          <p:cNvCxnSpPr/>
          <p:nvPr/>
        </p:nvCxnSpPr>
        <p:spPr>
          <a:xfrm>
            <a:off x="6399000" y="3193560"/>
            <a:ext cx="640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8" name=""/>
          <p:cNvCxnSpPr/>
          <p:nvPr/>
        </p:nvCxnSpPr>
        <p:spPr>
          <a:xfrm flipH="1">
            <a:off x="6086160" y="2127240"/>
            <a:ext cx="319680" cy="72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6984720" y="3586320"/>
            <a:ext cx="763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Interf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6680" y="4024440"/>
            <a:ext cx="1146240" cy="22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compo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/>
          <p:nvPr/>
        </p:nvCxnSpPr>
        <p:spPr>
          <a:xfrm flipH="1">
            <a:off x="6465240" y="3354120"/>
            <a:ext cx="101196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/>
          <p:nvPr/>
        </p:nvCxnSpPr>
        <p:spPr>
          <a:xfrm flipH="1">
            <a:off x="6465240" y="3063960"/>
            <a:ext cx="865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4946760" y="2855880"/>
            <a:ext cx="438120" cy="681120"/>
          </a:xfrm>
          <a:prstGeom prst="can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V="1">
            <a:off x="5384880" y="3193200"/>
            <a:ext cx="3895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847040" y="3440160"/>
            <a:ext cx="6822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Baz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d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Infopage"/>
          <p:cNvSpPr/>
          <p:nvPr/>
        </p:nvSpPr>
        <p:spPr>
          <a:xfrm>
            <a:off x="4995720" y="1641600"/>
            <a:ext cx="486000" cy="534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/>
          <p:nvPr/>
        </p:nvCxnSpPr>
        <p:spPr>
          <a:xfrm>
            <a:off x="5483160" y="1904760"/>
            <a:ext cx="603720" cy="95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4941720" y="2201760"/>
            <a:ext cx="1159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A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dministr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1240" y="1712880"/>
            <a:ext cx="5544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Su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7280" y="6494400"/>
            <a:ext cx="754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to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rea aplicatiei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bE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7160" y="2682720"/>
            <a:ext cx="232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ERII DE OP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BD18190_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486400" y="5861160"/>
            <a:ext cx="720720" cy="582480"/>
          </a:xfrm>
          <a:prstGeom prst="rect">
            <a:avLst/>
          </a:prstGeom>
          <a:ln w="0">
            <a:noFill/>
          </a:ln>
        </p:spPr>
      </p:pic>
      <p:pic>
        <p:nvPicPr>
          <p:cNvPr id="224" name="BD18190_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8194680" y="5861160"/>
            <a:ext cx="720720" cy="582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00800" y="6056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3" idx="0"/>
            <a:endCxn id="200" idx="2"/>
          </p:cNvCxnSpPr>
          <p:nvPr/>
        </p:nvCxnSpPr>
        <p:spPr>
          <a:xfrm flipH="1" flipV="1" rot="5400000">
            <a:off x="6408360" y="4835160"/>
            <a:ext cx="464400" cy="158832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199" idx="0"/>
            <a:endCxn id="200" idx="2"/>
          </p:cNvCxnSpPr>
          <p:nvPr/>
        </p:nvCxnSpPr>
        <p:spPr>
          <a:xfrm flipH="1" flipV="1" rot="5400000">
            <a:off x="6903720" y="5330520"/>
            <a:ext cx="464400" cy="59760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4" idx="0"/>
            <a:endCxn id="200" idx="2"/>
          </p:cNvCxnSpPr>
          <p:nvPr/>
        </p:nvCxnSpPr>
        <p:spPr>
          <a:xfrm flipV="1" rot="16200000">
            <a:off x="7762320" y="5068440"/>
            <a:ext cx="464400" cy="112140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2" idx="3"/>
            <a:endCxn id="196" idx="1"/>
          </p:cNvCxnSpPr>
          <p:nvPr/>
        </p:nvCxnSpPr>
        <p:spPr>
          <a:xfrm flipV="1">
            <a:off x="3102120" y="2856960"/>
            <a:ext cx="169920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0880" y="1828800"/>
            <a:ext cx="4496040" cy="4495680"/>
          </a:xfrm>
          <a:prstGeom prst="ellipse">
            <a:avLst/>
          </a:prstGeom>
          <a:solidFill>
            <a:srgbClr val="9696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1828800"/>
            <a:ext cx="4496040" cy="4495680"/>
          </a:xfrm>
          <a:prstGeom prst="ellipse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3429000"/>
          <a:ext cx="243828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29000"/>
                    <a:ext cx="243828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660320" y="289548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6080" y="289548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 SU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orm"/>
          <p:cNvSpPr/>
          <p:nvPr/>
        </p:nvSpPr>
        <p:spPr>
          <a:xfrm>
            <a:off x="6172200" y="3657600"/>
            <a:ext cx="843120" cy="1033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52578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TRUCTURARE DINA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29200" y="513396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RE DIMENSIUNE + PROCESARE RA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60120" y="115416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2"/>
            <a:endCxn id="235" idx="0"/>
          </p:cNvCxnSpPr>
          <p:nvPr/>
        </p:nvCxnSpPr>
        <p:spPr>
          <a:xfrm flipH="1">
            <a:off x="2544480" y="1550520"/>
            <a:ext cx="1991520" cy="1345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2" name=""/>
          <p:cNvCxnSpPr>
            <a:stCxn id="240" idx="2"/>
            <a:endCxn id="236" idx="0"/>
          </p:cNvCxnSpPr>
          <p:nvPr/>
        </p:nvCxnSpPr>
        <p:spPr>
          <a:xfrm>
            <a:off x="4535280" y="1550520"/>
            <a:ext cx="2035800" cy="1345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rea aplicatiei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eb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1676520"/>
            <a:ext cx="9144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tarea si certificarea optimizari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31320" y="1866960"/>
            <a:ext cx="1547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riterii de op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2000" y="2552760"/>
            <a:ext cx="1646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odule aplicaţ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6320" y="2209680"/>
            <a:ext cx="1637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rezultate tes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/>
          <p:nvPr/>
        </p:nvCxnSpPr>
        <p:spPr>
          <a:xfrm>
            <a:off x="4405320" y="2095200"/>
            <a:ext cx="21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/>
          <p:nvPr/>
        </p:nvCxnSpPr>
        <p:spPr>
          <a:xfrm>
            <a:off x="4405320" y="2438280"/>
            <a:ext cx="21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3321360" y="3809880"/>
            <a:ext cx="22820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rapoarte de optimiz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87360" y="3467160"/>
            <a:ext cx="9500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ocedu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65280" y="3124080"/>
            <a:ext cx="21938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etode de optimiz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>
            <a:off x="4462560" y="3352680"/>
            <a:ext cx="21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/>
          <p:nvPr/>
        </p:nvCxnSpPr>
        <p:spPr>
          <a:xfrm>
            <a:off x="4462560" y="3695400"/>
            <a:ext cx="21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3967560" y="4516560"/>
            <a:ext cx="8755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rezul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48440" y="1752480"/>
            <a:ext cx="114480" cy="1143000"/>
          </a:xfrm>
          <a:custGeom>
            <a:avLst/>
            <a:gdLst>
              <a:gd name="textAreaLeft" fmla="*/ 0 w 114480"/>
              <a:gd name="textAreaRight" fmla="*/ 41400 w 114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822320"/>
            <a:ext cx="4648320" cy="1073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80440" y="2209680"/>
            <a:ext cx="100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NALIZ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3009960"/>
            <a:ext cx="4648320" cy="1143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/>
          <p:nvPr/>
        </p:nvCxnSpPr>
        <p:spPr>
          <a:xfrm>
            <a:off x="8763120" y="2209320"/>
            <a:ext cx="21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2057400" y="4267080"/>
            <a:ext cx="4648320" cy="800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8440" y="3009960"/>
            <a:ext cx="114480" cy="1143000"/>
          </a:xfrm>
          <a:custGeom>
            <a:avLst/>
            <a:gdLst>
              <a:gd name="textAreaLeft" fmla="*/ 0 w 114480"/>
              <a:gd name="textAreaRight" fmla="*/ 41400 w 114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32720" y="346716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48440" y="4267080"/>
            <a:ext cx="114480" cy="800280"/>
          </a:xfrm>
          <a:custGeom>
            <a:avLst/>
            <a:gdLst>
              <a:gd name="textAreaLeft" fmla="*/ 0 w 114480"/>
              <a:gd name="textAreaRight" fmla="*/ 41400 w 11448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70920" y="4495680"/>
            <a:ext cx="153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ERTIFI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-135720" y="318384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2c69"/>
                </a:solidFill>
                <a:latin typeface="Arial"/>
              </a:rPr>
              <a:t>METRICI PROC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2c69"/>
                </a:solidFill>
                <a:latin typeface="Arial"/>
              </a:rPr>
              <a:t>AUDI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mizare cod su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are algoritmi gene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mizare multicriteri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tructurare dina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dit si certif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ocare op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219320" y="685800"/>
            <a:ext cx="6705360" cy="54864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eminare rezul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838080"/>
            <a:ext cx="2895480" cy="289584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905120"/>
            <a:ext cx="2895480" cy="2895480"/>
          </a:xfrm>
          <a:prstGeom prst="ellipse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2743200"/>
            <a:ext cx="2895480" cy="2895480"/>
          </a:xfrm>
          <a:prstGeom prst="ellipse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1828800"/>
            <a:ext cx="2895480" cy="2895480"/>
          </a:xfrm>
          <a:prstGeom prst="ellipse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unic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849400"/>
            <a:ext cx="1828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oarte cerce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5000" y="578016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e acoperit peste 90% din t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z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zat p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I DE OPT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ICATIE FUNCTI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c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PR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c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diul actual al cercetărilor în domeni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iterii de op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izarea prin simu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rea algoritmilor genetici şi a reţelelor neur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zultate experim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izarea globală a calită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izarea stocării în domeniul da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izarea regăsirii informaţ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izarea aplicaţiilor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ditarea si certificarea proceselor de optimizare softwar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luz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213264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biecti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identificarea modalităţilor prin care se optimizeaz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plicaţiile informatice cu elaborarea de modele pent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surarea efectelor optimizăr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jlo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65104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ALGORI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303228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REPREZENTAR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41316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FUNCT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79404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EXPRES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17528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CICL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05120"/>
            <a:ext cx="7924680" cy="3733560"/>
          </a:xfrm>
          <a:prstGeom prst="rect">
            <a:avLst/>
          </a:prstGeom>
          <a:noFill/>
          <a:ln w="57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120960" y="316080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2c69"/>
                </a:solidFill>
                <a:latin typeface="Arial"/>
              </a:rPr>
              <a:t>COMPI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6800760" y="310824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2c69"/>
                </a:solidFill>
                <a:latin typeface="Arial"/>
              </a:rPr>
              <a:t>COD 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61952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TABELE DE DECI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erii de opt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05440" y="4114800"/>
            <a:ext cx="266724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5440" y="1295280"/>
            <a:ext cx="2667240" cy="1067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040" y="4114800"/>
            <a:ext cx="266724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440" y="1066680"/>
            <a:ext cx="3124440" cy="1524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19040" y="1204920"/>
          <a:ext cx="243864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204920"/>
                    <a:ext cx="2438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86080" y="4343400"/>
            <a:ext cx="555480" cy="722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040" y="51973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ere caracteris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440" y="266688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acteristici de cali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913440" y="1413000"/>
            <a:ext cx="663840" cy="796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05440" y="23781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ficat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515280" y="4156200"/>
          <a:ext cx="144756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5280" y="4156200"/>
                    <a:ext cx="14475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905440" y="51973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zvoltar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38560" y="31082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re crite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2" idx="3"/>
            <a:endCxn id="73" idx="0"/>
          </p:cNvCxnSpPr>
          <p:nvPr/>
        </p:nvCxnSpPr>
        <p:spPr>
          <a:xfrm>
            <a:off x="3314880" y="1828800"/>
            <a:ext cx="1257840" cy="1280160"/>
          </a:xfrm>
          <a:prstGeom prst="bentConnector2">
            <a:avLst/>
          </a:prstGeom>
          <a:ln w="127080">
            <a:solidFill>
              <a:srgbClr val="c0c0c0"/>
            </a:solidFill>
            <a:miter/>
          </a:ln>
        </p:spPr>
      </p:cxnSp>
      <p:cxnSp>
        <p:nvCxnSpPr>
          <p:cNvPr id="75" name=""/>
          <p:cNvCxnSpPr>
            <a:stCxn id="60" idx="1"/>
            <a:endCxn id="73" idx="0"/>
          </p:cNvCxnSpPr>
          <p:nvPr/>
        </p:nvCxnSpPr>
        <p:spPr>
          <a:xfrm flipV="1" rot="10800000">
            <a:off x="4571280" y="1828440"/>
            <a:ext cx="1334160" cy="1280160"/>
          </a:xfrm>
          <a:prstGeom prst="bentConnector2">
            <a:avLst/>
          </a:prstGeom>
          <a:ln w="127080">
            <a:solidFill>
              <a:srgbClr val="c0c0c0"/>
            </a:solidFill>
            <a:miter/>
          </a:ln>
        </p:spPr>
      </p:cxnSp>
      <p:cxnSp>
        <p:nvCxnSpPr>
          <p:cNvPr id="76" name=""/>
          <p:cNvCxnSpPr>
            <a:stCxn id="61" idx="3"/>
            <a:endCxn id="73" idx="2"/>
          </p:cNvCxnSpPr>
          <p:nvPr/>
        </p:nvCxnSpPr>
        <p:spPr>
          <a:xfrm flipV="1">
            <a:off x="3085920" y="3504600"/>
            <a:ext cx="1486440" cy="1143720"/>
          </a:xfrm>
          <a:prstGeom prst="bentConnector2">
            <a:avLst/>
          </a:prstGeom>
          <a:ln w="127080">
            <a:solidFill>
              <a:srgbClr val="c0c0c0"/>
            </a:solidFill>
            <a:miter/>
          </a:ln>
        </p:spPr>
      </p:cxnSp>
      <p:cxnSp>
        <p:nvCxnSpPr>
          <p:cNvPr id="77" name=""/>
          <p:cNvCxnSpPr>
            <a:stCxn id="59" idx="1"/>
            <a:endCxn id="73" idx="2"/>
          </p:cNvCxnSpPr>
          <p:nvPr/>
        </p:nvCxnSpPr>
        <p:spPr>
          <a:xfrm rot="10800000">
            <a:off x="4571280" y="3504600"/>
            <a:ext cx="1334160" cy="1143720"/>
          </a:xfrm>
          <a:prstGeom prst="bentConnector2">
            <a:avLst/>
          </a:prstGeom>
          <a:ln w="127080">
            <a:solidFill>
              <a:srgbClr val="c0c0c0"/>
            </a:solidFill>
            <a:miter/>
          </a:ln>
        </p:spPr>
      </p:cxn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erii de opt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9856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inimiz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paţiu de mem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volum de preluc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ur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tranzac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aximiz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eci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mensiu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probl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de rezol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neral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grad de reutili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 optimiz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0560" y="4572000"/>
            <a:ext cx="193536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biectiv fi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44680" y="2567160"/>
            <a:ext cx="1720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hnici de optimiz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1371600"/>
            <a:ext cx="28288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ven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74880" y="3811680"/>
            <a:ext cx="10749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criterii de op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313080"/>
            <a:ext cx="1720800" cy="7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lic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313080"/>
            <a:ext cx="1469880" cy="90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une imbunatatita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56080" y="3811680"/>
            <a:ext cx="86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1880" y="2814480"/>
            <a:ext cx="1290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val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32480" y="3313080"/>
            <a:ext cx="1720800" cy="7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ie vari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58880" y="3562200"/>
            <a:ext cx="1506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080" y="3562200"/>
            <a:ext cx="10764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98120" y="516600"/>
            <a:ext cx="5594760" cy="5594400"/>
            <a:chOff x="1698120" y="516600"/>
            <a:chExt cx="5594760" cy="5594400"/>
          </a:xfrm>
        </p:grpSpPr>
        <p:cxnSp>
          <p:nvCxnSpPr>
            <p:cNvPr id="93" name=""/>
            <p:cNvCxnSpPr/>
            <p:nvPr/>
          </p:nvCxnSpPr>
          <p:spPr>
            <a:xfrm rot="5400000">
              <a:off x="4494240" y="515880"/>
              <a:ext cx="2520" cy="5595120"/>
            </a:xfrm>
            <a:prstGeom prst="bentConnector3">
              <a:avLst>
                <a:gd name="adj1" fmla="val -103500000"/>
              </a:avLst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94" name=""/>
            <p:cNvSpPr txBox="1"/>
            <p:nvPr/>
          </p:nvSpPr>
          <p:spPr>
            <a:xfrm rot="10800000">
              <a:off x="4494240" y="516600"/>
              <a:ext cx="1800" cy="559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292880" y="4060800"/>
            <a:ext cx="1800" cy="49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129120" y="3416400"/>
            <a:ext cx="1523880" cy="685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4788000"/>
            <a:ext cx="1523880" cy="685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mizare prin simul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4000" y="841320"/>
            <a:ext cx="1392480" cy="21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lutie initi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9640" y="1328760"/>
            <a:ext cx="825120" cy="106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S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S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S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77160" y="2502000"/>
            <a:ext cx="10144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51800" y="1244520"/>
            <a:ext cx="14792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simu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05160" y="973080"/>
            <a:ext cx="636120" cy="21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1658880"/>
            <a:ext cx="1458720" cy="21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6040" y="3564000"/>
            <a:ext cx="749160" cy="106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V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V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V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365760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/>
          <p:nvPr/>
        </p:nvCxnSpPr>
        <p:spPr>
          <a:xfrm>
            <a:off x="3890520" y="1128600"/>
            <a:ext cx="1080" cy="11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3200400" y="4951440"/>
            <a:ext cx="144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I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58960" y="6159600"/>
            <a:ext cx="24606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IMBUNATA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4" idx="1"/>
            <a:endCxn id="103" idx="3"/>
          </p:cNvCxnSpPr>
          <p:nvPr/>
        </p:nvCxnSpPr>
        <p:spPr>
          <a:xfrm flipV="1" rot="10800000">
            <a:off x="4634640" y="1085760"/>
            <a:ext cx="3166200" cy="317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1"/>
            <a:endCxn id="103" idx="3"/>
          </p:cNvCxnSpPr>
          <p:nvPr/>
        </p:nvCxnSpPr>
        <p:spPr>
          <a:xfrm rot="10800000">
            <a:off x="4635360" y="1402560"/>
            <a:ext cx="2756520" cy="3690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3" idx="2"/>
            <a:endCxn id="102" idx="0"/>
          </p:cNvCxnSpPr>
          <p:nvPr/>
        </p:nvCxnSpPr>
        <p:spPr>
          <a:xfrm flipH="1">
            <a:off x="3884400" y="1561680"/>
            <a:ext cx="8640" cy="940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1" idx="3"/>
            <a:endCxn id="102" idx="0"/>
          </p:cNvCxnSpPr>
          <p:nvPr/>
        </p:nvCxnSpPr>
        <p:spPr>
          <a:xfrm>
            <a:off x="1649160" y="1806480"/>
            <a:ext cx="2235600" cy="6962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2" idx="2"/>
            <a:endCxn id="96" idx="0"/>
          </p:cNvCxnSpPr>
          <p:nvPr/>
        </p:nvCxnSpPr>
        <p:spPr>
          <a:xfrm>
            <a:off x="3884400" y="2819520"/>
            <a:ext cx="6840" cy="597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6" idx="3"/>
            <a:endCxn id="102" idx="0"/>
          </p:cNvCxnSpPr>
          <p:nvPr/>
        </p:nvCxnSpPr>
        <p:spPr>
          <a:xfrm flipH="1" flipV="1">
            <a:off x="3884400" y="2501640"/>
            <a:ext cx="768960" cy="1257840"/>
          </a:xfrm>
          <a:prstGeom prst="bentConnector4">
            <a:avLst>
              <a:gd name="adj1" fmla="val -29742"/>
              <a:gd name="adj2" fmla="val 11817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96" idx="2"/>
            <a:endCxn id="97" idx="0"/>
          </p:cNvCxnSpPr>
          <p:nvPr/>
        </p:nvCxnSpPr>
        <p:spPr>
          <a:xfrm>
            <a:off x="3890520" y="4101840"/>
            <a:ext cx="108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7" idx="2"/>
            <a:endCxn id="110" idx="0"/>
          </p:cNvCxnSpPr>
          <p:nvPr/>
        </p:nvCxnSpPr>
        <p:spPr>
          <a:xfrm flipH="1">
            <a:off x="3889080" y="5473440"/>
            <a:ext cx="216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7" idx="3"/>
            <a:endCxn id="106" idx="2"/>
          </p:cNvCxnSpPr>
          <p:nvPr/>
        </p:nvCxnSpPr>
        <p:spPr>
          <a:xfrm flipV="1">
            <a:off x="4652640" y="4519080"/>
            <a:ext cx="2739240" cy="6120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6" idx="0"/>
            <a:endCxn id="102" idx="0"/>
          </p:cNvCxnSpPr>
          <p:nvPr/>
        </p:nvCxnSpPr>
        <p:spPr>
          <a:xfrm flipV="1" rot="16200000">
            <a:off x="5106600" y="1279080"/>
            <a:ext cx="1062720" cy="3507480"/>
          </a:xfrm>
          <a:prstGeom prst="bentConnector3">
            <a:avLst>
              <a:gd name="adj1" fmla="val 12151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i gene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1371600"/>
          <a:ext cx="25146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25146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600200" y="403848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313200" y="1837440"/>
            <a:ext cx="26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2c69"/>
                </a:solidFill>
                <a:latin typeface="Arial"/>
              </a:rPr>
              <a:t>RETELE NEUR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-282600" y="462528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2c69"/>
                </a:solidFill>
                <a:latin typeface="Arial"/>
              </a:rPr>
              <a:t>ALGORITMI GENET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87360" y="7621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MIZ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5840" y="1752480"/>
            <a:ext cx="2414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ociat procesul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0600" y="13064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440" y="2346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3"/>
            <a:endCxn id="129" idx="1"/>
          </p:cNvCxnSpPr>
          <p:nvPr/>
        </p:nvCxnSpPr>
        <p:spPr>
          <a:xfrm flipV="1">
            <a:off x="7294320" y="1504800"/>
            <a:ext cx="386280" cy="60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8" idx="3"/>
            <a:endCxn id="130" idx="1"/>
          </p:cNvCxnSpPr>
          <p:nvPr/>
        </p:nvCxnSpPr>
        <p:spPr>
          <a:xfrm>
            <a:off x="7294320" y="2107800"/>
            <a:ext cx="402120" cy="43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906800" y="4038480"/>
            <a:ext cx="2414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atie fac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itate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6858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3048120"/>
            <a:ext cx="762120" cy="761760"/>
          </a:xfrm>
          <a:custGeom>
            <a:avLst/>
            <a:gdLst>
              <a:gd name="textAreaLeft" fmla="*/ 118800 w 762120"/>
              <a:gd name="textAreaRight" fmla="*/ 667080 w 76212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57280" y="376092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97600" y="48006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3" idx="3"/>
            <a:endCxn id="136" idx="1"/>
          </p:cNvCxnSpPr>
          <p:nvPr/>
        </p:nvCxnSpPr>
        <p:spPr>
          <a:xfrm flipV="1">
            <a:off x="7324560" y="3958920"/>
            <a:ext cx="432720" cy="435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3" idx="3"/>
            <a:endCxn id="137" idx="1"/>
          </p:cNvCxnSpPr>
          <p:nvPr/>
        </p:nvCxnSpPr>
        <p:spPr>
          <a:xfrm>
            <a:off x="7324200" y="4394160"/>
            <a:ext cx="474120" cy="60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4:38:59Z</dcterms:created>
  <dc:creator>Catalin</dc:creator>
  <dc:description/>
  <cp:keywords/>
  <dc:language>en-US</dc:language>
  <cp:lastModifiedBy>User</cp:lastModifiedBy>
  <dcterms:modified xsi:type="dcterms:W3CDTF">2008-02-20T09:12:05Z</dcterms:modified>
  <cp:revision>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